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25338"/>
        <c:axId val="13723474"/>
      </c:barChart>
      <c:catAx>
        <c:axId val="85125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23474"/>
        <c:crosses val="autoZero"/>
        <c:auto val="1"/>
        <c:lblAlgn val="ctr"/>
        <c:lblOffset val="100"/>
        <c:noMultiLvlLbl val="0"/>
      </c:catAx>
      <c:valAx>
        <c:axId val="13723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25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D2E-3648-4B18-B051-370512E8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5C5-2625-4042-920D-7381CFC5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A4B-CB82-442A-9B09-F68C1E9E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86B-88CE-43D0-80F8-CD275A7E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9E2-B8D2-49F4-946D-66B93F0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E7E-AF60-4C06-8D61-F9BADBB8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E99-31BA-4815-97F3-9A714C4F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F7C-4882-4E6D-A2B3-AD9415E7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28B-0A1C-4747-9302-D8050345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248-FBDC-4315-9814-2680388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A2A-D244-45E8-AB05-CE4B81CF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5BF-0E23-4923-8B5B-A1452FA3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C9965-65A7-4C9E-9486-0DC9C5E0FE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