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007373"/>
        <c:axId val="62003666"/>
      </c:barChart>
      <c:catAx>
        <c:axId val="84007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03666"/>
        <c:crosses val="autoZero"/>
        <c:auto val="1"/>
        <c:lblAlgn val="ctr"/>
        <c:lblOffset val="100"/>
        <c:noMultiLvlLbl val="0"/>
      </c:catAx>
      <c:valAx>
        <c:axId val="620036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07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FB16-A08A-498C-A47E-87FCA093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5819-CC21-4583-BC25-5E472B77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A35F-B177-437F-BA54-9340C412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CF2F-005C-4374-A074-D79EAFA1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C863-55C1-4DF8-9647-FF4E62CF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D1A2-C766-46C0-853D-90B32C01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D2F3-9858-46DE-82B0-DC761D27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2DEA-B3FD-4519-AD68-F70542B3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46F2-A04A-41B4-AEDA-CF7024EC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63F2-381A-4614-A85D-6D5940A2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124F-FCAD-4E17-B334-428E1F56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FBED-9A9F-489F-BC0D-2C40E915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8060C-457D-49B0-8531-6D9FE05F5C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