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254275"/>
        <c:axId val="20362211"/>
      </c:barChart>
      <c:catAx>
        <c:axId val="18254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62211"/>
        <c:crosses val="autoZero"/>
        <c:auto val="1"/>
        <c:lblAlgn val="ctr"/>
        <c:lblOffset val="100"/>
        <c:noMultiLvlLbl val="0"/>
      </c:catAx>
      <c:valAx>
        <c:axId val="203622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54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4A7-BC5F-4290-B61A-9800FE55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1F6-2930-426F-95A7-FB467D6D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0DE-3246-483A-830A-E789C476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6CE-1FEC-4956-901B-C17FE79C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C3A-1FC8-46F1-8CCE-165DF773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340E-51F5-4923-A170-A56A85F1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32C-955B-4F02-AB37-980AF1A2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B4E-F08E-4F4E-8A77-6F7C7FF5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7297-2A97-46D6-A776-6F14B68C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752-EF59-49B0-A7D9-391F1F6D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816-8DE8-452F-BB64-5523B881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EF0A-D7A7-43AA-B51F-5AA9177D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83F74-B76D-4BB7-A7F0-953B73C2D2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