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64267"/>
        <c:axId val="10287616"/>
      </c:barChart>
      <c:catAx>
        <c:axId val="67264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87616"/>
        <c:crosses val="autoZero"/>
        <c:auto val="1"/>
        <c:lblAlgn val="ctr"/>
        <c:lblOffset val="100"/>
        <c:noMultiLvlLbl val="0"/>
      </c:catAx>
      <c:valAx>
        <c:axId val="102876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64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F66-F0FA-42E8-BD84-E96BA13E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E69-8E0C-4A37-8A82-FB76B6E2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0B6-8495-49D1-9ED7-494079D1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8C1-67F0-45DF-A4A0-429C964C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16D-ABA6-4A2D-98E8-F56C4D71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86A-8B3C-41B4-8A3F-7C428413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C77-20E7-4882-B133-6CCBF069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4D5-B44C-4B06-AB7D-A17D56F2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3CC-9B84-4DB5-8FF5-543ABCC9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D79-2ADF-4A73-8E72-151B2AA3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617-3B31-4C6B-9690-A6C5EB20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746-96DF-4C81-93CF-AA9C4FA1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3C217-3820-4C04-BD02-93AA3DADAF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