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03504"/>
        <c:axId val="20193556"/>
      </c:barChart>
      <c:catAx>
        <c:axId val="92503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93556"/>
        <c:crosses val="autoZero"/>
        <c:auto val="1"/>
        <c:lblAlgn val="ctr"/>
        <c:lblOffset val="100"/>
        <c:noMultiLvlLbl val="0"/>
      </c:catAx>
      <c:valAx>
        <c:axId val="201935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03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A963-41BB-4E6E-9F74-5D50BF7A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9B3-640C-44FB-88BF-74DE6500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DCB3-1D64-401C-A57B-15D0F97C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323-8902-4994-90D6-5587D649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40A0-E37C-43DF-9DA4-A3C25F08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E16-797C-4F99-8103-614A9978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A88-EB41-46F4-BE02-354428A5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3AC-4A74-410C-B615-813722FB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D991-360B-4920-8D6E-12A85DE1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D9B-96BF-4558-9736-772685C7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E41F-AACF-4319-9650-F49759C2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2E8-9BBB-4CDD-A1A5-A1264948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FD745-0F3F-4799-9D41-4B5D6CA659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