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46501"/>
        <c:axId val="1028651"/>
      </c:barChart>
      <c:catAx>
        <c:axId val="27646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8651"/>
        <c:crosses val="autoZero"/>
        <c:auto val="1"/>
        <c:lblAlgn val="ctr"/>
        <c:lblOffset val="100"/>
        <c:noMultiLvlLbl val="0"/>
      </c:catAx>
      <c:valAx>
        <c:axId val="1028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46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43C-24A4-4F8A-A025-88058421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24D-49D4-4E3C-826E-A4FBC7B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A4F-BD28-4FDE-8647-6CF0DE95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D7B-E1F1-4883-BAE0-FF1DF3F1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A6E-ACBA-41F1-8D99-F28B0A43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D46-BCCB-43F6-9154-B1C74366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260-D05D-4D91-9F7F-01152A00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989-064F-44FE-A124-E7004D4E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A99-CA8D-442E-8611-65A83E0F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3D3-9C4D-4976-B127-D8EA193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EE2-FE70-44E8-BF6D-8E307E9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F6D-CB99-43E7-9A35-68D8665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324AB-B12E-4C91-9EE5-CCD3CB12F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