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32751"/>
        <c:axId val="16104894"/>
      </c:barChart>
      <c:catAx>
        <c:axId val="39932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04894"/>
        <c:crosses val="autoZero"/>
        <c:auto val="1"/>
        <c:lblAlgn val="ctr"/>
        <c:lblOffset val="100"/>
        <c:noMultiLvlLbl val="0"/>
      </c:catAx>
      <c:valAx>
        <c:axId val="16104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32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B193-955E-4734-BCAE-03F59D3F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0E3C-3E2A-4CC2-B3B6-89B2E85D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3BC-8753-4DFF-8142-0869719D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56DE-1CD0-4023-9E20-5A09E7AD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EF1-6D32-49FE-90AF-8ECB8AB3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7B23-B29D-44FB-9FB6-384BD95F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49D-AA47-423A-B226-D60AB565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1599-FD5F-4D7F-838C-87790183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698C-3CA3-44E5-A062-07CB9771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270-3BC4-4DF8-BA3D-459D3512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867-A799-406F-A0D9-93279F24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90C-105D-4254-A1AE-54654CB8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394DE-50B7-4A88-B0A9-690CA8FDBD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