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C6F2790-06BF-48F2-861F-2C529F81A8D5}"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D25ED2E-C377-4703-B67A-654D2D60BE1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C4C8C17-A13E-4AF8-9587-432E6E4A633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769F6CA-A5B9-4BF1-A043-AFD98918904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C6B56CD-8C3D-4F4F-8B4F-076BB3879B4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A056F2C-FDF2-4BA6-A2C2-BDCD8461622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F3B4864-A16F-407D-807D-5663D6988BC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9BF362A-56E3-4AD1-AE3C-C99288E26ED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6CB2D95-D0B8-4272-BC61-A81B89EB1CD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CA6A438-9A45-4DBF-9F60-85429597E54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9F3829F-C302-4C42-BEC3-E044DC99F60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9CC30D5-8C51-4DBC-BAF6-7BFE78047D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55051C-081D-43B3-BA35-3743890AF1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948872C-9B18-454A-9B1F-0DB7997A3D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6B8C16A-82CD-42CC-97E3-39D82513AB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2F4CEBE-075C-47E8-AD74-41A17CF5860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1C86AC4-FEBA-4BBC-B196-85B3D66E444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1E66431-CAF0-4827-AC57-E607AA537E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4527725-45B1-4F0B-8F0D-DFD3DDDDFD0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FCC3FF6-A3CE-4316-9045-FD4E931B840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773EA63-A0DC-498B-AB8A-22189777DB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E9F9A05-76ED-433B-BE10-8F53D9B7EF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EB3C41-8B1A-4A6E-97AE-D7CCFA9D7D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22CDACB-5D49-45B6-96DA-2F4E62DF0B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270E8AB-068A-44D8-82B8-A9C62DC5E7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D15AFEE-C1C0-4569-A855-586D374FF7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C7EEA47-56C6-4E90-85C4-0EC22AC5C80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14B502B-41F5-4E0E-8655-7DC56EEAAD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592E5C-9D03-4212-A13A-8177E7D695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8AF467-64F6-47F0-BCF0-8C8D423928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4AEBD7-176F-462A-82AF-5469215975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DDA6C2-DFA0-4B5B-B0ED-B43CE2035E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139675-A2E0-4888-B6EF-33A0A48274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E074D8-FA2F-422B-B3EE-E9C23DF15A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FCC946-2348-4216-8648-0610F2A096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BAE42-FBDB-4C9A-B854-7014C4A0F5BD}"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C4568-B0CE-42AA-80CD-1AA8D2E4B13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4C91B1E1-1E41-475B-8AA7-974520B8A2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90E9007-4836-4530-95CC-245ADD3855D6}"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2F1C0EA-AB55-4C93-AB26-2BD4C83E670B}"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7289439-46B9-4C6F-9219-4B9E0E0C0499}"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79B6FAA-8969-48AD-8147-D2BD57DECEB2}"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590C81B-EA40-4BF8-BD1E-D3C1319A4443}"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2848E22-26DD-4471-B473-E8DA64BB8052}"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982B4E6-08F3-4017-8592-285D22EE8A69}"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F5C2FE1-9784-41F8-B866-7E0FC313BDFE}"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C474D88-B016-45E3-8ED5-233365294F23}"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AB88797-E07E-4FD0-BE79-7F6DB7993958}"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0975BDA-3A19-4889-B21B-BF0E1399E33D}"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64D31F3-612C-4D2C-B277-AD7886F1F90C}"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9D661BD-4698-4293-B5FC-05AD41F68921}"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7AC57CB-EF14-48CA-A1E9-20CAB55B6D68}"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B326B10-2AB5-42E5-A2B2-ED87269D2D54}"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2B9E5C0-F0E3-4355-9FC2-E8E698760E42}"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29DF6A3-D62E-4E89-A492-771C36047575}"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6D67BEEC-EEC1-492F-B675-C72A8D0B2CB0}"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97E983F8-5BE0-4BF5-B246-9A23CC65267C}"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32AD822-EC08-4CB4-9465-2AA89880A680}"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752CB41-A052-41E3-9C2C-01A876F63F4E}"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785A112-4F51-4FDA-8DBD-06BCCDCB3630}"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7B5933C-C617-46BC-A1C2-FF8BF3B0320B}"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FB72399-A68C-42D7-A2DD-5A44D83D3DE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48E5D28-A3CC-4A82-97C3-F2CA8D37E2E1}"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E8D5FD9-E2B5-47B6-B94E-05FBB49551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15F50E2-AF18-4272-AF36-0506BE82FAB6}"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D50CA799-BEFA-481B-B0DF-2D6B9FE090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2F97FE2-83DB-4819-A1DD-47D5C7A9EE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59223C7-1992-4AB5-9CEC-95B42F1893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167AE35-011A-4168-8388-C179FACB3544}"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CF70DDF-B2B1-4289-AACA-FE09DAC465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FBC2C4C-B20F-42D0-B0DD-0D61E2D0BE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6E0985A-5A0A-4582-8374-6D8A024F13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F95BD3D-AC47-458B-8515-200394928425}"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2D2BCFD-96A3-4504-9443-D7E5835136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CE93982-7663-4A19-BC20-308006D1F3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57C55AF-C208-44DF-9D0F-3AE7BF45D0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A7E48CF-1BB1-4274-A89E-05DC8A1EE5E8}"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0A1BEAD-271F-4D23-996B-F33AE02844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E18AEF8-E256-42C0-8FAF-F427F02628C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A82461A-FB64-43F5-BFB7-1E134ABE46D8}"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BC8A25F-5857-402D-8B96-7817D84C58B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63690FC-4D52-42E7-96CE-8C617914FF6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686EEFA-655A-495F-A0D1-EF3270FE591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601A0BB-7E60-48EC-B979-784429FA6D7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A719BEF-A2C1-482F-8735-E235481878D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32CF685-585F-4492-AC1D-AF2C1C28ED7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7754FEB-14EF-4865-80CD-F3AEF0FC634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47B1909-01BC-44FB-A5B2-1314E57403F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8E8252E-F105-4B92-8714-13B36F3F2F3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6475AA9-AD86-4729-A532-1C3D29E61F0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3AC1747-8363-450A-BD26-2B07825371C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0B9BDDF-83DD-407A-A63A-1382594B4C6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215C575-C564-4698-8D76-AB0907EF92F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C20139C-F1B3-4419-9C87-D95FD9FB636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7803DD4-1473-4138-A16A-84350364209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E80EC19-FEAD-4BE6-AB5F-878C1DAC0A4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EDD2B4C-52E2-45E1-AD52-7B76A55D46C8}"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5F2E7F5-0983-423E-98AF-0BB11B338E6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0279305-85FB-4D8A-B411-8CF0DA79FA2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36D872D-F83A-44F4-988F-0BF6FD3B947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BDA794D-2471-4A01-8667-9CD4DC92484F}"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84C3620-EBD5-4CBB-BD39-24E20A85AD01}"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92FB47D-EBBA-4DFC-9BD9-23DB283821DB}"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188CB9E-5E55-4819-AAD8-0E5BDBC28ED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A31908B-0A87-467C-831F-F341441FA6D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8F9A674-6940-46CE-9253-B1E2994FC1E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7872601-30F2-4115-B423-FD0D62CE3283}"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C120D04-AA30-4354-8D98-DF6B867E1124}"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8CEB194-C987-4AEF-BB8F-97BA6409C9AB}"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7219EDB-ED94-406D-B2C4-35B9ABAC40CF}"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65B8A99-03BA-486E-BBA2-B72EFDDD717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6BFD908-D2FF-444F-8E28-FA9CDBE21FCB}"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10BB482-0565-411F-84D9-81268716447C}"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0BDAA3D-E661-47A3-A7B8-68B1DFDA723C}"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F3C10B7-6D43-4E80-B9C7-322C07B04A62}"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49708B9-379E-470A-9752-43AB5E9FD4A9}"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FF86602-3AF7-4902-92A8-7AE455C8EC3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EE5C5FF-BB3C-467F-9379-EA4C5710EC09}"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8E12832-19D6-45FC-90A4-FC32226D3FCF}"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921C5F4-0F7E-4A67-9F6C-666A1A1D9434}"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B2765B7-9A34-478D-985F-15A1BB12C1C1}"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9634C8B-3BDF-4B17-96BA-49F512E0F0E6}"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BADFC9A-C7DF-46BC-A9C8-48F47202F7EE}"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BC44CF4-43C3-475D-98FA-4525F58672A7}"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0A8318D-A414-4470-B594-E8240D446CCA}"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38394DB-7D3C-43DA-A63D-2F247595A514}"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1C00544-DB27-498B-A295-91C11F9CA359}"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B192E27-C119-4FDB-AADB-21443147607C}"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E84E407-0C81-4573-AAC0-4F13B3DBC794}"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A8DC0E2-0FEC-4DAF-8FBF-45EFE8D4207E}"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174CF05-BA05-4673-B452-33B4426A9A66}"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4A2F9DD-58D9-4314-8575-443F543859E3}"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B16D479-A179-439A-862A-73F84A8DB787}"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16234F9-3A81-4521-A601-1CDE93984FDC}"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83A40830-6F9B-425B-B573-537DC9EFF32C}"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0AEF55E-A3E2-4118-99B8-164277FAC58F}"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BE2CB2F-410E-4187-81DF-8878DBBEAAFB}"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D763DAD-DF09-429C-9EC5-8B6E06B6A10B}"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7548B2D-8B00-4C61-A733-B8418A3CA022}"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7963231-E797-4560-A856-FC5351041D3F}"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19D5996-8134-413B-95E7-B9C12B5EE2F8}"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6F6B7D2-5916-430A-8F22-6FDEDC9C9B2F}"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FC2465D-608B-44B9-AF86-2C7DC9D57D13}"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204EC9C-F7ED-41BB-8F10-B7FC4C090410}"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B53FB5A-AAB8-4CDD-A32C-5B1061DA7623}"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957A8C4-D136-4E83-8FA1-8B8120EC22A9}"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8938A573-C094-4147-AA43-361DB16A8D7F}"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ED6CD4E-01FC-4C56-B955-E9464F5CD145}"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8AD538E-E87A-4C3E-B11B-8368CB92C17B}"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68768B9-B265-4E3B-A51A-FB6F99B2E11B}"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56CA0C3-F267-4B4B-924A-64D7DCD97718}"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3FAD7BB-D4BF-4455-9693-8CF0F067202C}"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C6A4890-ABE4-49DB-AE2F-0FC314A1E2FC}"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4B9D764-25BE-49E6-8D60-17CAE554D0C7}"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4F71241-F33E-4628-BECA-7C56E1066013}"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DAC07D8-86A0-4F34-BEEA-B16115EA8D1C}"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540BD1D-7F74-49D8-A55F-B715621E64B9}"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339B5E5-8FB1-4DE1-8B63-3FE1F216B044}"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