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83117"/>
        <c:axId val="38546975"/>
      </c:barChart>
      <c:catAx>
        <c:axId val="7883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46975"/>
        <c:crosses val="autoZero"/>
        <c:auto val="1"/>
        <c:lblAlgn val="ctr"/>
        <c:lblOffset val="100"/>
        <c:noMultiLvlLbl val="0"/>
      </c:catAx>
      <c:valAx>
        <c:axId val="38546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3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B80-07B3-465F-B142-F43239C8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5C2-5E1F-4DC6-A9A7-A0590058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AC2-8932-45DD-817C-FD4B5DA4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EDFD-486B-4702-B832-A915AC07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E62-8942-4219-B42B-FE9DAEE3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E27-D4D6-4D76-B342-9A847D82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BDB-AAC9-41D9-8AA5-3D8F8A92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3244-D4BF-4647-B3F5-213EC4B3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01F-7492-4DA6-A12F-B1683851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592-080B-4E92-B214-15EF3833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63B-A7D8-4760-A5E5-A22824BA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AA5-7F27-4BEF-A7B0-ED621526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F54A2-522B-45C2-8C4D-414FD40451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