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0768"/>
        <c:axId val="63634325"/>
      </c:barChart>
      <c:catAx>
        <c:axId val="3320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34325"/>
        <c:crosses val="autoZero"/>
        <c:auto val="1"/>
        <c:lblAlgn val="ctr"/>
        <c:lblOffset val="100"/>
        <c:noMultiLvlLbl val="0"/>
      </c:catAx>
      <c:valAx>
        <c:axId val="63634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0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2B9-811D-4C04-A64B-25DD4782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D71-AE2F-41B6-A570-5A0F2B3A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D4B-5EE6-489E-8456-2EDEC9DF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D47-0589-4929-95B9-F3CE9869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9D5-34DD-4A82-B3A6-A52EFEB0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9A0-47BE-43AF-A35C-059F28EA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ABF-E342-43AD-A849-F1F20780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327-E731-4C05-A642-BA0DE135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BD0-C5D7-4F8F-B372-57D556E0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4B93-B155-476A-9810-C58123C8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830-B3E4-41D4-8F7E-B5885BD1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EE8-54A3-4A16-80CD-F0773C4E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FFA3D-1DA3-40DC-BC64-4F695CBFD3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