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21623"/>
        <c:axId val="36112298"/>
      </c:barChart>
      <c:catAx>
        <c:axId val="96321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12298"/>
        <c:crosses val="autoZero"/>
        <c:auto val="1"/>
        <c:lblAlgn val="ctr"/>
        <c:lblOffset val="100"/>
        <c:noMultiLvlLbl val="0"/>
      </c:catAx>
      <c:valAx>
        <c:axId val="36112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21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84E-6D02-4F47-A48C-572822A6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A9C3-3CF2-40D4-A2AB-F541F63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D81-15E5-4193-8BB4-BC74C20A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AD5-E33D-40AB-BF20-6836FB3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A79-9977-4711-BDCF-8DB60C4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073-20D8-4FF8-8E71-90965E0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204-830D-4EAA-AEA8-EC34D04E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E883-AC8B-44A8-9877-5370C5A1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51D-23C8-4694-8BDF-0A145DD5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CF3-3FEB-448B-8779-5B82A653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6F6-CABA-48D3-AC42-EED0589B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C1D-1362-4F91-86F1-D8170B4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3B86E-9345-4882-9AEA-442EC4412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