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15855"/>
        <c:axId val="44561596"/>
      </c:barChart>
      <c:catAx>
        <c:axId val="67215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61596"/>
        <c:crosses val="autoZero"/>
        <c:auto val="1"/>
        <c:lblAlgn val="ctr"/>
        <c:lblOffset val="100"/>
        <c:noMultiLvlLbl val="0"/>
      </c:catAx>
      <c:valAx>
        <c:axId val="4456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15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905-80F9-40CF-99E8-0F776A8A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71B-4B8B-48A7-940E-5354023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0A9-B530-48E6-9D16-472621E1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8B3-F437-4470-8532-9DE8E646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7EC-BA72-4241-9C57-F95B216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D7A-ADB6-4A42-9C06-691679E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5EB-ADC6-43E2-8313-657AE027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F28-AEB3-4C8E-9735-86C85B5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735-C46F-47E4-8450-B47DE59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19F-DD34-420E-9DA9-A158DB8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9A7-FF26-42A7-9977-15D5231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049-6A44-4BA0-8907-43E20403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7AF33-03E1-4C54-8DDA-0B3FC392A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