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259684"/>
        <c:axId val="5514018"/>
      </c:barChart>
      <c:catAx>
        <c:axId val="802596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4018"/>
        <c:crosses val="autoZero"/>
        <c:auto val="1"/>
        <c:lblAlgn val="ctr"/>
        <c:lblOffset val="100"/>
        <c:noMultiLvlLbl val="0"/>
      </c:catAx>
      <c:valAx>
        <c:axId val="55140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596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1F14-3B42-4B7A-A452-A61271B1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418C-BE06-46C2-A4CD-8ADB4688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0E93-CBCD-4331-8BF8-CB352EC4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0230-0806-45B2-A943-1201892E3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DFEE-93B4-4D22-BACB-8C0B765A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21E1-5709-4D98-A812-CB6D0B09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C0F8-B9BB-4DBC-81CF-E853883C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AC82-0147-4E72-BC24-FF3F0EAE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1C07-614D-4A34-B1D4-2DD48E2A5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E7E9-593D-4506-91CB-F1F91DDF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EE60-52C3-4F7E-BE0A-87C9A55F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0689-486F-4F77-8408-E313ED40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B0942-CABC-4941-83F9-D8F4722B97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