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32130"/>
        <c:axId val="12698438"/>
      </c:barChart>
      <c:catAx>
        <c:axId val="90432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98438"/>
        <c:crosses val="autoZero"/>
        <c:auto val="1"/>
        <c:lblAlgn val="ctr"/>
        <c:lblOffset val="100"/>
        <c:noMultiLvlLbl val="0"/>
      </c:catAx>
      <c:valAx>
        <c:axId val="12698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32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B66-AE48-4148-8288-054213C2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187-0BA2-4920-8AF6-3A5BB429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609C-7089-40C2-8CF7-D2D92696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6AAF-1EB7-4E33-9344-AE7AC5DE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328-BC87-4633-8300-F19FC96D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933-801E-4B6C-8F87-6F189067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62F-9AE7-48A5-B78B-46CDAB0E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AFF-D8DB-4873-B30D-8AAF81B7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57D-60DF-41D3-838A-DB11E555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BA2-2E6F-4696-8793-617CA23A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762-8F1F-42E7-897B-E3E8E473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606-53D4-40C4-955B-41307D3B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D10ED-EA30-462F-B736-020BA48AFA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