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99160"/>
        <c:axId val="71260391"/>
      </c:barChart>
      <c:catAx>
        <c:axId val="81999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60391"/>
        <c:crosses val="autoZero"/>
        <c:auto val="1"/>
        <c:lblAlgn val="ctr"/>
        <c:lblOffset val="100"/>
        <c:noMultiLvlLbl val="0"/>
      </c:catAx>
      <c:valAx>
        <c:axId val="71260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99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23F-F755-4B74-9716-C9530EFD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477-275D-429A-8C7E-5C79C7C1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7CD-F363-429C-926A-844F74A6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E53-6433-422B-A87B-7D30B276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EB5-750F-49BE-9CE7-0C8E7373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19A-F85D-42D4-870C-98394FB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E9F-9E6D-4DB7-A4F3-1DD2BD14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5BE-80A8-45E2-B13D-6422E565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B5B-B98F-4E46-A41B-BBB61AA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5C6-B0A9-44B1-B8FA-F0E90BCF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0E6-812E-4A05-B41E-DFECEA4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687-2745-41D6-914A-DF5EE51E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43DE4-8A50-4A6B-8899-AF8548FE9B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