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093521"/>
        <c:axId val="11233528"/>
      </c:barChart>
      <c:catAx>
        <c:axId val="280935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33528"/>
        <c:crosses val="autoZero"/>
        <c:auto val="1"/>
        <c:lblAlgn val="ctr"/>
        <c:lblOffset val="100"/>
        <c:noMultiLvlLbl val="0"/>
      </c:catAx>
      <c:valAx>
        <c:axId val="112335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935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3BBA-32A3-4B40-AD18-E57EA8D5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53BD-06EC-4752-83C5-4E5C6E0D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4238-3B64-4515-815E-2BC43257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72A8-A005-43E8-BED6-DAC2AB41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C7EC-89C9-40D2-B54A-088B57CA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F53D-71F1-430A-9F16-D5D9D3E9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7CB1-DA59-4B37-BCC5-36BE9F26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49A9-43D9-42C5-998C-89970A8A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9D27-5DA9-4649-8AFD-5901EE08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7D7A-C1FE-4E3A-B345-C164D8BD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2511-6B8F-4D8B-99E8-4CB2F658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A195-8317-4764-9650-B7826A47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0B3C1-5982-462C-8FC0-ECBA15D135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