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492129"/>
        <c:axId val="212477"/>
      </c:barChart>
      <c:catAx>
        <c:axId val="124921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477"/>
        <c:crosses val="autoZero"/>
        <c:auto val="1"/>
        <c:lblAlgn val="ctr"/>
        <c:lblOffset val="100"/>
        <c:noMultiLvlLbl val="0"/>
      </c:catAx>
      <c:valAx>
        <c:axId val="2124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921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A830-370F-4720-B951-E971104B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5388-1645-4149-BAF4-FA51C251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29E1-BCA8-45BE-9814-788FBCB4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CDED-B3D7-46D3-AE63-B5BF8A0E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3838-2438-408A-8E24-29773CB7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9684-16EC-44B5-8142-E73907FE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CA8E-B5C6-4A10-A729-F38BD2DD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8F7A-9FBD-44A7-8BD2-21D82717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42B1-6608-4328-8A9A-F5CB9100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0E9A-9EDE-4E46-9CBB-B6D52A62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CCAF-68B8-415D-B67B-2BB371BC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8D3F-8441-45E0-A4B4-CE7A10B0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B653E-8A8F-48FE-821A-91EFC2C102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