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960668"/>
        <c:axId val="45583802"/>
      </c:barChart>
      <c:catAx>
        <c:axId val="359606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583802"/>
        <c:crosses val="autoZero"/>
        <c:auto val="1"/>
        <c:lblAlgn val="ctr"/>
        <c:lblOffset val="100"/>
        <c:noMultiLvlLbl val="0"/>
      </c:catAx>
      <c:valAx>
        <c:axId val="455838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9606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461E-6354-4E5F-8B8F-71428F93B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6EAF-72C3-436E-872E-FC7E8F4D7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2D69-3EBD-4EF9-99C8-F3FBD8300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44F4-B615-4343-A548-6D7FC3412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E812-E30A-4949-A95B-7A7AA320B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F17B-D456-44D3-B049-033570E5F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EF12-FAD2-442C-A50B-59AA29E12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CFB6-824B-424C-8075-C97766644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1F5F-BD89-4534-B601-3DB993739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8A21-051E-40E6-8EB4-33E93777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C145-DE0F-4536-80D2-457260A8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626E-50F1-4B52-B08C-B5726CF7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0D6A65-5DBD-49A3-A017-D2BF637F804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