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170007"/>
        <c:axId val="18393324"/>
      </c:barChart>
      <c:catAx>
        <c:axId val="161700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393324"/>
        <c:crosses val="autoZero"/>
        <c:auto val="1"/>
        <c:lblAlgn val="ctr"/>
        <c:lblOffset val="100"/>
        <c:noMultiLvlLbl val="0"/>
      </c:catAx>
      <c:valAx>
        <c:axId val="183933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700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267A-18CA-45FB-9DDD-C6F4F8B74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4D9D-CFF6-4419-966F-67AF2413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4BC4-3FB7-4FAB-B6B1-86E6763F5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80DC-DBF2-4A54-BD6E-C85C61AC3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E201-928B-4C61-916E-3C2A2DC6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C63D-B6E0-4150-BA05-DD62E27D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E877-A49D-4F20-BBA1-6677948F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85CF-48B5-47AA-9D35-C6D80E34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65E2-A6AD-41C7-A9E4-E7350462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F162-DDD8-44EA-9DA9-35F886FD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3EE3-15E3-4B40-AAE7-2E11B4CF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ED2A-943C-46CC-AE9D-4993E4E0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68D885-C6DB-4F16-9F65-7926331ADA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