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51190"/>
        <c:axId val="71670641"/>
      </c:barChart>
      <c:catAx>
        <c:axId val="15451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70641"/>
        <c:crosses val="autoZero"/>
        <c:auto val="1"/>
        <c:lblAlgn val="ctr"/>
        <c:lblOffset val="100"/>
        <c:noMultiLvlLbl val="0"/>
      </c:catAx>
      <c:valAx>
        <c:axId val="71670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51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7260-2EA9-4191-AF9F-FE231AE2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349-A761-45BA-B68F-E2F98D35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8B6-7787-4BC3-ACED-DF6C7D8B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EB39-F86C-48E6-A02B-08E85E28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7269-386D-4442-90F0-A0AA7183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9A5-69F4-4D15-A3B1-D30B3FFF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C98-12AC-4AAF-96FF-4EB3F1FB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916-16A3-4DDD-B653-D5C2472C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754-2CDA-40BE-BAB6-3ED30F8B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EC18-76A7-4EFB-9A4F-C51B9303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5B7-612B-460F-A3B7-D1838262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ED6-F2DF-4684-8D2C-F7AB978D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99FC3-46FE-4978-917C-49069B58D7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