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14452"/>
        <c:axId val="98024658"/>
      </c:barChart>
      <c:catAx>
        <c:axId val="22514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24658"/>
        <c:crosses val="autoZero"/>
        <c:auto val="1"/>
        <c:lblAlgn val="ctr"/>
        <c:lblOffset val="100"/>
        <c:noMultiLvlLbl val="0"/>
      </c:catAx>
      <c:valAx>
        <c:axId val="98024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14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12B-C055-47C1-B616-8AE54DEE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27A-A1E6-49F3-9343-8DE1853A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150-4C7E-4770-AB18-0501999B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07A-65E2-4AD4-8A62-D9E99892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902-963F-45D0-A25E-83814F08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20E-8FE5-456A-93E1-DDE82F49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E01-684C-4B40-B450-7A6BBCAD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926-1337-4C80-8C8C-A13EFF9A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A1E-B6B2-4CA6-A575-D4A55B46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82F-4DEB-4059-A044-B4C242D8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500-1DDC-48B8-B47D-0B635DFA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8E2-6295-463D-BC15-9270C3CF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BB735-E842-4345-AF1E-2833016907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