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766653"/>
        <c:axId val="9798169"/>
      </c:barChart>
      <c:catAx>
        <c:axId val="917666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8169"/>
        <c:crosses val="autoZero"/>
        <c:auto val="1"/>
        <c:lblAlgn val="ctr"/>
        <c:lblOffset val="100"/>
        <c:noMultiLvlLbl val="0"/>
      </c:catAx>
      <c:valAx>
        <c:axId val="97981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7666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FEBF-8848-4118-908F-41DF81796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3811-46E5-4198-974B-A1E09EED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50B8-9871-4272-A109-7DEA6B2C8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2519-51DD-437E-9FEB-BE292B1A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6B3C-06E6-4E3E-A2EC-2827C01D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F7E6-3760-4B35-B443-B9958B9D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DF4C-B649-47DC-823E-5E0F8583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3C45-4491-403B-940C-EA2B3E4D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34EE-377A-43DE-80EE-6AD7E0C8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D525-17FF-4228-9F5D-547D74DE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2CC1-7E39-4C7D-832B-824D3525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F847-E0E4-4796-8AD6-EC8F42C9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EB21B-3600-447C-B83F-96B567EA40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