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73830"/>
        <c:axId val="61264512"/>
      </c:barChart>
      <c:catAx>
        <c:axId val="67573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64512"/>
        <c:crosses val="autoZero"/>
        <c:auto val="1"/>
        <c:lblAlgn val="ctr"/>
        <c:lblOffset val="100"/>
        <c:noMultiLvlLbl val="0"/>
      </c:catAx>
      <c:valAx>
        <c:axId val="61264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73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6AE-C0F3-41C0-AF1E-6221068A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899-21DE-4B24-8000-6DDAF69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284-3102-4A86-AB26-9A450A3F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24B-07DA-470D-A59A-27D079DE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689-B5F3-425E-808E-996D5B17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FDD-188A-42B6-AE63-E4E50F76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B6E-2BB1-4C4B-BBD1-CA559D7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EA9-A8CE-4032-8078-BA8F9F38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A47-7DCA-4497-B299-CF5AFC5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845-BF74-4947-A48A-7E429DD0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752-813C-470C-A786-AD35EE0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FA1-A224-44DB-A387-D68BD35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D5FA9-4B66-46AD-B755-1820BAAA8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