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28352"/>
        <c:axId val="13042694"/>
      </c:barChart>
      <c:catAx>
        <c:axId val="414283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42694"/>
        <c:crosses val="autoZero"/>
        <c:auto val="1"/>
        <c:lblAlgn val="ctr"/>
        <c:lblOffset val="100"/>
        <c:noMultiLvlLbl val="0"/>
      </c:catAx>
      <c:valAx>
        <c:axId val="13042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283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68B-698F-408D-BD3F-472D9D25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318-999E-4F9D-8C7E-6D86BFD7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DC0-B864-4107-B8C0-F75DADED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8C8-C973-4361-8850-27FD416B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258-F4F1-4BD9-BD27-800B4568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7DE-C191-472C-ADAF-0A0D6B69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79E-7482-4698-B0CE-06595D8E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70C-FD1F-450A-ACB9-576DF00E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A6D-869F-487F-8C0D-C8C6B0D6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8BC-B386-4AB9-A776-FEEE645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737-E379-4F38-8F2B-A2C72E28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5D2-B59C-4F60-9ACD-AF38AC03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18F33-619C-47D8-81F2-3949BB69F5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