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638734"/>
        <c:axId val="79973259"/>
      </c:barChart>
      <c:catAx>
        <c:axId val="696387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973259"/>
        <c:crosses val="autoZero"/>
        <c:auto val="1"/>
        <c:lblAlgn val="ctr"/>
        <c:lblOffset val="100"/>
        <c:noMultiLvlLbl val="0"/>
      </c:catAx>
      <c:valAx>
        <c:axId val="799732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6387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0BFE-0780-4B94-832F-88052CBED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57B1-59E9-47E7-8105-CC7806031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8D72-A872-40C1-ADF5-AE5AAC0F4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C94E-D05E-46D2-AE9D-E551CC4F4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939B-908F-4A97-889D-534961C64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1286-6064-4E81-B8F4-DDCC73657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F77D-787E-4DE7-91A1-F00EF1197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D4F1-E186-4802-A784-C7ABB2F53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C4D5-195F-4779-A1B4-DAB5CFE2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1F34-1C86-44CC-B3D6-A9A55FA6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C64B-AFF7-4E79-A520-169EF6DD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D3B4-A4DF-4037-9473-032117CB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472663-EE39-48A8-9F75-4258B4E11D6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