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23183"/>
        <c:axId val="31070128"/>
      </c:barChart>
      <c:catAx>
        <c:axId val="53423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70128"/>
        <c:crosses val="autoZero"/>
        <c:auto val="1"/>
        <c:lblAlgn val="ctr"/>
        <c:lblOffset val="100"/>
        <c:noMultiLvlLbl val="0"/>
      </c:catAx>
      <c:valAx>
        <c:axId val="31070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23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466-A85F-4B73-B295-823A9B1C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254-13C8-4203-8F14-FECD474C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0C3-E71D-44E4-A379-06D89BE9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D75-A15C-4FEF-A80C-9672E5E6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AB2-107A-400D-B737-61A42EB6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684-82D4-4A38-8554-E5D308C1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FC9-3F7D-4324-94D2-241C62DE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53F-875E-4B62-8212-984BC115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98A7-3B67-4988-8342-4465897D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F6F2-6C7C-4561-94B7-A6F0DFB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062-605E-4D55-A62A-09C09DD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AEF-E09D-43B9-899A-7E77B4BF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C0F1A-574E-4FA2-B4B4-EEF69167F6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