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05707"/>
        <c:axId val="39266429"/>
      </c:barChart>
      <c:catAx>
        <c:axId val="69705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66429"/>
        <c:crosses val="autoZero"/>
        <c:auto val="1"/>
        <c:lblAlgn val="ctr"/>
        <c:lblOffset val="100"/>
        <c:noMultiLvlLbl val="0"/>
      </c:catAx>
      <c:valAx>
        <c:axId val="39266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05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A9F-4BEA-43F0-9F79-F18E7055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5F8-D275-434E-A382-9B1DB76C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D26-9250-46B4-8C40-14ED9499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8AF-32F2-4976-84F8-A6E6E652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EA4-23DA-4C53-A759-5706E001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E19-D97F-49BC-B3EF-6C4D081E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14D-725F-464B-ADE0-C3E7DF37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1E8-DF7B-4EFC-BD5D-94F9EFC9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D50-A0B1-4D17-9D01-84E884FE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7BC-9049-4EB2-BE86-73736EF6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862-4D59-4A8E-ADA4-EEF389D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7D7-06AC-4196-BAFA-7716C8A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4E810-9E4C-482B-B6E7-11479CB5FA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