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071050"/>
        <c:axId val="46423613"/>
      </c:barChart>
      <c:catAx>
        <c:axId val="950710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23613"/>
        <c:crosses val="autoZero"/>
        <c:auto val="1"/>
        <c:lblAlgn val="ctr"/>
        <c:lblOffset val="100"/>
        <c:noMultiLvlLbl val="0"/>
      </c:catAx>
      <c:valAx>
        <c:axId val="464236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710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0FFA-6E17-4D62-933E-6E151F9B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F2BC-59C0-499E-986E-1B94B97E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1493-DC59-4900-819D-A7D1EDD0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D5EE-CFED-4D54-9B75-C57292D8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B861-F231-4000-B05E-1891F478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9D6D-6492-436D-9D84-3AFB9DA1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FFF9-CC64-4ABA-ACEB-0203FE72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3FBB-66C5-488F-80E9-04B18B94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D8BD-F871-43D0-8209-EF9CEF97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EE03-B329-419E-BF53-9856847A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FF6-87F3-4D08-9744-56579C99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27F5-5758-4DF5-9787-1D8FF9DF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84634-35CB-4A9C-B65E-F504456E02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