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4351"/>
        <c:axId val="36924221"/>
      </c:barChart>
      <c:catAx>
        <c:axId val="4194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24221"/>
        <c:crosses val="autoZero"/>
        <c:auto val="1"/>
        <c:lblAlgn val="ctr"/>
        <c:lblOffset val="100"/>
        <c:noMultiLvlLbl val="0"/>
      </c:catAx>
      <c:valAx>
        <c:axId val="36924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4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C18-B922-486F-A3F2-68CA8843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86D-B5EB-422F-8F2B-FA3F91CC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49B-D1B4-40F1-9E1C-C3BCBB1A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EA4-18E9-436E-82C6-06E14D88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A1F-59A0-42AC-8B26-7ED5603B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0FA-07CA-4C78-96DA-551FF6F8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769-3824-4540-AA8E-2245CDAC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80B-59F7-4204-A176-26D2C59F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609-A2DD-47D6-9B38-CBC9B30B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509-1115-4F71-8AEA-EC1BEABD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6FA-6543-4416-935C-38860C95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A9E-4D21-4D4D-BE0A-152BCE7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F4316-6E6A-4DCC-8AEC-68D8022304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