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52081"/>
        <c:axId val="37048030"/>
      </c:barChart>
      <c:catAx>
        <c:axId val="19252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48030"/>
        <c:crosses val="autoZero"/>
        <c:auto val="1"/>
        <c:lblAlgn val="ctr"/>
        <c:lblOffset val="100"/>
        <c:noMultiLvlLbl val="0"/>
      </c:catAx>
      <c:valAx>
        <c:axId val="37048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52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CC4-1B60-4045-9438-E615FA9D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38D-DD09-4FE2-89C8-4D6D7061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B0E-3160-4665-AA48-0F8B62CF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6FBC-3BED-4547-9179-617A0F48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EC4-7494-43A6-975F-D78F6DEC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160-6B1D-4B7E-9881-E021ED32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D9A-6B39-4CE4-8AD0-50F422B7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B36-48A5-42C2-8416-46E527C1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E33-B62E-41D5-B80D-8D64FF11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F36-C97F-4BCD-ABE0-0ECDDCBD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93A-06B4-4D0E-BF60-CC7B4223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564-48AD-4F3E-8571-CD5DD138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4E359-3D63-4D19-BF4C-2D5EA685EC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